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F6BF7-467C-4C7F-A734-598D97454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ts out percentiles of the distrib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model explicitly denies causal status to personal attributes, such as race, age, nationality, etc. it incourages the investigation of processes such as descrimination, et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re-read this in shrout and bolg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7CA-D8F0-49FE-943F-060CFAC1B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10E4-1169-4C19-89E4-8C9C35138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3EBE-4A59-4E25-B61B-0581811C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B530-4F74-46FC-A030-7C5417080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A03E-FA84-4CE4-A3DD-26C5CA4F3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BDA8-2518-49BF-98C9-F6E30DD59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E1C1-8EAE-44A1-81FF-E34DAD30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A8A6-2DF8-46E1-AF09-358A0D1A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C4D36-2934-4E9C-B113-DA60DD63C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CF6C-E01D-483C-8657-7A1B8591B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40F2-00AE-415C-9002-11DF14B60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E126-8B86-41EA-8980-4B0EC43D6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D8840-2035-45F8-AAD0-4C5C6992B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sting Mediation Using Standard Regression Appro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533520" y="1549440"/>
          <a:ext cx="7696080" cy="5308560"/>
        </p:xfrm>
        <a:graphic>
          <a:graphicData uri="http://schemas.openxmlformats.org/drawingml/2006/table">
            <a:tbl>
              <a:tblPr/>
              <a:tblGrid>
                <a:gridCol w="1923840"/>
                <a:gridCol w="1886040"/>
                <a:gridCol w="1962000"/>
                <a:gridCol w="1924200"/>
              </a:tblGrid>
              <a:tr h="1193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ep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tandard error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ta We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 Valu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: X to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0(.8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5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 X to 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155(.05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9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 M to 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10(1.9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3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0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 X to Y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.42(.98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.24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0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rdized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985680" y="1973160"/>
            <a:ext cx="7172640" cy="3780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3809880" y="548640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= -.2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6019920"/>
            <a:ext cx="7620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mediation has occurred, we expect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direct (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x b) effect to be nonz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bel test involves computing the ration o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its esimated standard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p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for this ratio is computed in reference to the standard normal distrib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 statistic = -2.12, p = .0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bel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s with this approach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only normal in large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stimate of this effect is subject to estimation err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67480" y="3429000"/>
            <a:ext cx="99072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8991720" cy="3905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315200" y="3429000"/>
            <a:ext cx="11430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62120" y="1219320"/>
            <a:ext cx="75960" cy="3200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480" y="4495680"/>
            <a:ext cx="30492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0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200400" y="4343400"/>
            <a:ext cx="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8120" y="4572000"/>
            <a:ext cx="380880" cy="47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ab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98" name=""/>
          <p:cNvSpPr/>
          <p:nvPr/>
        </p:nvSpPr>
        <p:spPr>
          <a:xfrm>
            <a:off x="1523880" y="5562720"/>
            <a:ext cx="556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distribution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highly skewed which lowers the power of the t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914400"/>
            <a:ext cx="2971800" cy="11912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 values of “ab” are more variable than small values (i.e., 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>
            <a:off x="3809520" y="2209680"/>
            <a:ext cx="121932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2133720" y="1752480"/>
            <a:ext cx="167616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143000" y="15228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bel Test has Low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tstrapp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nonparametric re-sampling procedure that does not impose the assumption of normality of the sampling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utationally intensive method involves repeatedly sampling from the data set and estimating the indirect effect in each re-sampled data set (thousands of ti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pirical approximation of the sampling distribution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uild and used to construct confidence intervals for the indirect eff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ternative Method: Bootstrapp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1: Uses the original data set as the “population,” creates a sample of N persons by randomly sampling observations with replacement from the data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2: For each bootstrap sample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estim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s Steps 1 and 2 a bunch of times (e.g., 2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ine the distribution of the estim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new way of testing significance of indirect ef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in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tal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times it is possible to argue on theoretical grounds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is prior to X and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s prior to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ffect of Z on Y is completely accounted for by the indirect path through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n example of total medi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path from X to Y is fixed to zero, then the model is no longer satur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estion of fit becomes in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mediation require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rong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iews on path C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we need to have the direct path between X and Y (i.e., path C) to test for mediat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nny says y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others say 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rout and Bolger (200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depends on how far apart in time X and Y were collec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Kinnon (2000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Med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wo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orks through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r more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to be confused with mod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onship between two variabl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nges as a function o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other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of caus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have argued that there cannot be “causation without manipulatio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ough standar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Flawed Example of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one might try to argue that family disorganization on low self-esteem is totally mediated through placement in foster c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on and Kenny(1986) criteria might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significantly related to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is significantly related to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Y is regressed on Z and X,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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significant but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not significa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stical significance is a function of sample siz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ic suggests that children not assigned to foster care who live in a disorganized family may suffer direct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Good Example of Med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is an experimentally manipulated variable such as a pr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is a measured process var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is an outcome logically subsequent to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Chen and Bargh (199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liminal primes given to a ss (the observer) could affect his or her verbal behavior toward another participant (the target), which would in turn evoke increased hostility in the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the observer’s hostile behavior would mediate the relationship between the prime and the target’s hostile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Mediato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ten we have several mediators in mind to account for the relationship between X and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g., Holbert et al. (2003) showed that viewing traditional dramas, progressive dramas, and situation comedies mediated the influence of political ideology on support for women’s righ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 Mediator Mode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multiple mediators, we c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pecific indirect effec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X on Y through mediator M (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estimate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otal indirect effect,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is the sum of the specific indirect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s of simultaneously estimating multiple indirect effe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 determine to what extend specific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iables mediate the X to Y effect, conditional on the presence of other mediators in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s the likelihood of parameter bias due to omitted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s us to examine the relative magnitudes of indirect effects to pit competing theories against each oth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 many examples of the benefits of using bootstrapping to estimate multiple indirect effects over other metho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iggs (2006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lliams and MacKinnon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Beginning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124080" y="4267080"/>
            <a:ext cx="4038840" cy="304920"/>
          </a:xfrm>
          <a:prstGeom prst="rightArrow">
            <a:avLst>
              <a:gd name="adj1" fmla="val 50000"/>
              <a:gd name="adj2" fmla="val 331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39152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34340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Mediation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267080"/>
            <a:ext cx="4038840" cy="304920"/>
          </a:xfrm>
          <a:prstGeom prst="rightArrow">
            <a:avLst>
              <a:gd name="adj1" fmla="val 50000"/>
              <a:gd name="adj2" fmla="val 3311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37160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91520" y="411480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43400" y="3733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43400" y="21337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 rot="19428600">
            <a:off x="2255400" y="3260160"/>
            <a:ext cx="2362320" cy="380880"/>
          </a:xfrm>
          <a:prstGeom prst="rightArrow">
            <a:avLst>
              <a:gd name="adj1" fmla="val 50000"/>
              <a:gd name="adj2" fmla="val 1550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 rot="2311200">
            <a:off x="5321160" y="3244320"/>
            <a:ext cx="2286000" cy="305280"/>
          </a:xfrm>
          <a:prstGeom prst="rightArrow">
            <a:avLst>
              <a:gd name="adj1" fmla="val 50000"/>
              <a:gd name="adj2" fmla="val 1872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400800" y="28195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38280" y="281952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5257800"/>
            <a:ext cx="4419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= path from predictor to medi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 = path from mediator to outc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’ = direct effect (path from predictor to outcome controlling for mediato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ron and Kenny ste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C, or X t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a, or X to 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b, or M to Y (with X in th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path c’, or X to Y (with M in the 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Steps 3 and 4 are done at the same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composition of Eff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h c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rect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tal eff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+ indirect eff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 = c’ + ab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ce of Each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2 and 3 are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 to M must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 to Y (with X in model) must be pres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ps 1 and 4 not so essent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me disagreement about step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Perceived control over pres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 = Meaning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Acute str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ation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660240" y="1782720"/>
            <a:ext cx="7823520" cy="41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essa west</cp:lastModifiedBy>
  <dcterms:modified xsi:type="dcterms:W3CDTF">2012-01-06T16:23:45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